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9CE4-06B6-4AA8-87F9-BE718ADB7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7777-65B6-4160-AF38-C2981473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25B7-BC9D-4118-8989-05490EAE3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D05A-514E-4763-98FF-2DB3EBBA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12F2-277B-46E4-9CF6-30241432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294C-C997-4C87-A462-03B55BE4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5812-681F-4E7B-A6E2-E23561F7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C89F-F716-4456-BB23-6799FB67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1AE6-0624-45FD-B35D-7E96A77F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D27C-E2A9-4427-8EEF-5C47B94E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31A5-30FA-4D30-8FC2-67AC124B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8D8C-12B8-4270-9CD7-489060D9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0D14-6306-4344-91D5-9A98DD9D0A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59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56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355680" y="2076480"/>
            <a:ext cx="85690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حي إله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وحي النبوة لا يكون إلا للرجا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0" descr=""/>
          <p:cNvPicPr/>
          <p:nvPr/>
        </p:nvPicPr>
        <p:blipFill>
          <a:blip r:embed="rId3"/>
          <a:stretch/>
        </p:blipFill>
        <p:spPr>
          <a:xfrm>
            <a:off x="368280" y="907920"/>
            <a:ext cx="8596440" cy="1168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"/>
          <p:cNvPicPr/>
          <p:nvPr/>
        </p:nvPicPr>
        <p:blipFill>
          <a:blip r:embed="rId4"/>
          <a:stretch/>
        </p:blipFill>
        <p:spPr>
          <a:xfrm>
            <a:off x="2556000" y="3789360"/>
            <a:ext cx="6273720" cy="48276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324000" y="443700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تى لا نعمل مثل ما عملوا فيصيبنا مثل ما أصا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208"/>
          <a:stretch/>
        </p:blipFill>
        <p:spPr>
          <a:xfrm>
            <a:off x="195120" y="2708280"/>
            <a:ext cx="875376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1304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8496000" cy="3241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2635200" y="5089680"/>
            <a:ext cx="38736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1055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179280" y="1052640"/>
            <a:ext cx="87854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642160" cy="475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72540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4863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طريق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130560" y="907920"/>
            <a:ext cx="4178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هج دعوة النبي </a:t>
            </a:r>
            <a:r>
              <a:rPr b="1" lang="en-US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56610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نزيه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دعوة إلى الله عز وجل على علم وهدى وبصيرة واتباع منهج الرسول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 الدعوة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هج الصحيح في البدء بالدعوة إلى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بدء بالتوحيد والتحذير من الشر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أن الله لم يبعث رسولاً من النساء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رسالة من خصوصيات الرجا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نظر والتأمل والتدبر في أخبار وآثار ومآل الأمم السابق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ث عليه الإسل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زاء أهل الإيمان والتقوى في الآ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3"/>
          <a:stretch/>
        </p:blipFill>
        <p:spPr>
          <a:xfrm>
            <a:off x="488880" y="907920"/>
            <a:ext cx="8467920" cy="115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4"/>
          <a:stretch/>
        </p:blipFill>
        <p:spPr>
          <a:xfrm>
            <a:off x="250920" y="2157480"/>
            <a:ext cx="84247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412920" y="907920"/>
            <a:ext cx="8480160" cy="2521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276120" y="3573360"/>
            <a:ext cx="86360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شترط في الدعوة اكتمال العلم بل يكفي ان يدعوهم بقدر علمه ولا يشترط ترك جميع المعاصي . قال ال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4"/>
          <a:stretch/>
        </p:blipFill>
        <p:spPr>
          <a:xfrm>
            <a:off x="235080" y="4556160"/>
            <a:ext cx="867240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0T05:38:47Z</dcterms:modified>
  <cp:revision>2025</cp:revision>
  <dc:subject/>
  <dc:title>عرض تقديمي في PowerPoint</dc:title>
</cp:coreProperties>
</file>